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BDD0F-1D89-434E-8018-5A6019C62686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9CD7C-0B98-42F8-86EF-1502104A8DD5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51EA4-B882-434F-8152-E87ABB217E57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C6621-789B-41AE-99D2-F586C82501F5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33AFF-39D5-4412-9469-44163421F620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375E6-D679-4247-BE91-14CD0CD8CAFE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AA18D-A273-4120-BA56-78A706CFDDE2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68AD9-E394-459D-AFC5-FA2BFB3DE62F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DACD-F53D-4A95-B4CF-FCEC39D06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494D-CC1C-46BB-9F5B-89624C34E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0D5AC6-03A2-4D85-AB18-92B98E5F7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BCC968-A60E-4350-B0C1-0667A6E0A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0A738D-FB4E-4054-B9B0-3AC1B20B0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5B6700-9ADC-4EE4-A7B9-470297485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41B178-AF66-47ED-8E0C-447990EC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0DA4B7-42CA-4515-BE82-5F4C99D63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4BBCB0-9619-4628-AF40-0551E2A67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F856EC-7BD1-4438-B180-62209F318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435B00-BB9F-4CB5-B2FB-A9B73C2F4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7C26-00E8-42E6-9A2E-8CFF2A644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3FDA-6246-4BBA-887B-5B3940CF9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E05BE-AA96-4E97-AC96-23D6AA05A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460E5-0E77-46D5-B350-A33396C6D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1B440-3884-4A6B-A1BA-25E6F55DA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97B2E-BDF5-4C97-8E7E-18181A516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BBB78-3746-49E8-90FA-4B9275CD9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71349-089D-4670-ABEE-5183660F0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AB811-C98E-4449-BC34-4B9DEDD5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E457-8C3C-4A94-8ACE-B80034E1C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AB49C-EB09-4658-A2A5-6725067C6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C53DD-4644-4D1D-9823-875C64C16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516E9-8E45-4A61-B40D-5B23A2F56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B6855-AB9D-461C-A1AF-8A341B97A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C5664-F940-4F8B-886E-95C4947E3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6DF37-8321-4ACF-B5ED-992997E49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5AF03-ED4F-4E51-834E-EB2E5BB13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388E0-4B01-44ED-AB0B-B6133E2CF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94689-45F1-4183-B5B8-A7C1B46DE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988D6-3149-4213-842B-94345D6F5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9265-68E4-4BCF-9D67-CCF42E3FD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FA0C9-5554-4C0F-BBD8-542369BE4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E0C93-B08A-4D6B-B5F9-5720F1D0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8D9E9-2978-4586-A599-ACC4FFF08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A8D03-0F81-4CAD-9C8A-2E0D90ADD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211F7-C3C5-4097-820A-223E9FD9D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B7DFC-1BCE-4CE2-A0D4-BC95E9258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12F5C-D708-40AF-9424-9FBD59126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73F6A-4C6F-4607-8265-7AB21BD72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C69A0-6265-49AB-B2E3-2C3965A2B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FC6EF-3C23-4BAF-940D-3FA31D11F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4386-12AC-4C52-B0F3-034E4F5F2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88682-0F92-4597-A07F-1A0F8A5D6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9673F-3709-4FC4-A2EC-CB31ACCCB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29CC9-17FA-42BD-837E-934F73895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E51D5-BEA4-418A-88C3-92EB2C74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13DE8-A906-4905-BDCF-020D4F460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A0563-1FA5-4141-81E1-196C0E59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92D44-FF6A-4394-8157-E960F2445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4BB48-C415-45B4-BA2D-5EEB2210A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4FD9C-8EDB-443B-82FC-59F0BB49B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A3AEFB-186B-49C0-9D7A-25673399D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8B2F-D3A4-4872-8D7D-5D410FA05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90891-0EDB-4DEC-ACD0-70988DC57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EA0435-DCCB-4A96-ADAB-D9020D3FD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D7251-C4BB-46F0-90AD-01ACAF8F7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EBD851-9113-4B15-89F0-AE4A762D3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56009-3309-4A1C-8353-D226CDCC3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652E3-DD98-4880-B286-B4357EEE1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9C38AC-36D8-45F0-A0A5-487275BB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C5096A-DD30-4DBA-B282-512E835F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AF167-6629-454B-BAD3-52575D5C6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C4D72-405A-47B6-B899-B63EDEAC4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DBB2-D7E8-418D-9725-E2ED5D659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B7585C-6DB2-43C0-90CA-524AECFC8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BE2374-15AB-4AD1-9E7C-8B920008C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7AE0A8-E77E-4F81-883A-AE62FD286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77E31-3542-4D57-BD15-09A89C560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1AFE54-0AA9-4C4D-9E3D-C4D821A43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395D9-25E5-434D-87D6-4543D27BE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4E7BE7-4530-4D97-A378-84104D111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8173E6-A227-41F5-9BB8-17A9E9A6B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A61AC3-6D99-40BD-AFA7-1C1123983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0AA114-8BE2-4EF8-9629-E7FA1C19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836E-AC44-4CB1-9506-B86BF4E80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A8947B-E0EB-4E56-97E6-E9AB2C617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945BDB-8B92-40B9-9E41-869FAACC8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0B782E-37E2-499D-A5F2-1200393E9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432858-C2A6-497F-808A-408CDD073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433E5B-D7F1-4624-BA49-20094B8C0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5EC9C1-0B1C-49EE-B53A-48B9D8440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456BD0-EE80-493A-A561-4C16FB33E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959E13-D85C-4F99-B391-6FD542212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EAD6B3-84C5-4F13-8460-0B32D0A15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A1614E-DAE6-47D1-ABAB-35C1DE69D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AB8A-4F64-470B-AE77-99FBB2B09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3EB043-C036-48F3-9537-178A05196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10E5F3-463B-43B6-84A3-E6C16574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6E22E3-0BE8-4740-92CF-CEEE93F96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C92A5D-031A-4FCE-81EC-E09C2ADE4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C24F39-46B3-497C-A4BA-280AFAB96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2066BF-9C9E-4537-8F58-5388C3FFA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793923-6FE2-4A20-8B67-2E9C72AE9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215180-EB68-419E-9BD5-D2E1F3FB6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C7FDF3-AF13-4C56-9F96-92B4D8AB5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3A0D2B-A70C-4D28-8890-AE4C04780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BD2C-A8FD-4AF4-9C4B-C5194857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626DEA-952D-49A8-8E80-DE3644349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3BEA97-2196-46DB-8D3D-4F6285DE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1AA302-D066-4FC4-B0CF-D94FF78A5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638C94-0E97-40AD-84FA-35D1CE76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02E869-B997-4100-BB2B-6CFC2F210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738A08-FB73-41A6-8724-3D5F04777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88A889-5B46-4227-AF37-A69F2D57C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5A0B3D-C1D7-4C9E-89EB-EF7683070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D6710D-7E8D-4A0B-BB6B-59028806F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12D917-5E99-4725-9B80-8A6221175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Conexão recta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Conexão recta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71EA8-2E87-4741-9E0F-64A41DCF50CC}" type="slidenum">
              <a:rPr b="0" lang="pt-PT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Conexão recta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Conexão recta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" name="Conexão recta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Conexão recta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Conexão recta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Conexão recta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68CAA-F4D5-438F-BDB6-73F3C746A2FF}" type="slidenum">
              <a:rPr b="0" lang="pt-PT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Conexão recta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Conexão recta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Conexão recta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Conexão recta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Conexão recta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Conexão recta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F268E-ECAD-473E-9FE2-E68A42485741}" type="slidenum">
              <a:rPr b="0" lang="pt-PT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Conexão recta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Conexão recta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24878-F422-4393-AD7F-2573CDEB88D2}" type="slidenum">
              <a:rPr b="0" lang="pt-PT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Conexão recta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Conexão recta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717E9-3CAB-4569-A2E3-8A70EC7DAFD7}" type="slidenum">
              <a:rPr b="0" lang="pt-PT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27248-B3CC-418E-B174-E6526A39D70C}" type="slidenum">
              <a:rPr b="0" lang="pt-PT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Conexão recta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Conexão recta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B13D9-CF31-4C0E-A91B-3E4A09AA8418}" type="slidenum">
              <a:rPr b="0" lang="pt-PT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CF467-B415-45B3-AC4E-1BEB46A0BFE9}" type="slidenum">
              <a:rPr b="0" lang="pt-PT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EAC22-06DF-4CC4-9C9C-0713F101945D}" type="slidenum">
              <a:rPr b="0" lang="pt-PT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554040" y="5681520"/>
            <a:ext cx="7931160" cy="135252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785880" y="21384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5400" spc="-1" strike="noStrike">
                <a:solidFill>
                  <a:srgbClr val="4e3b30"/>
                </a:solidFill>
                <a:latin typeface="Arial"/>
              </a:rPr>
              <a:t>FORMAS DE RELEVO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8" name="Picture 6" descr=""/>
          <p:cNvPicPr/>
          <p:nvPr/>
        </p:nvPicPr>
        <p:blipFill>
          <a:blip r:embed="rId2"/>
          <a:stretch/>
        </p:blipFill>
        <p:spPr>
          <a:xfrm>
            <a:off x="2286000" y="1714680"/>
            <a:ext cx="4191120" cy="31572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3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3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" dur="2000" fill="hold"/>
                                        <p:tgtEl>
                                          <p:spTgt spid="408"/>
                                        </p:tgtEl>
                                      </p:cBhvr>
                                      <p:to x="14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Rectangle 2" descr=""/>
          <p:cNvPicPr/>
          <p:nvPr/>
        </p:nvPicPr>
        <p:blipFill>
          <a:blip r:embed="rId1"/>
          <a:stretch/>
        </p:blipFill>
        <p:spPr>
          <a:xfrm>
            <a:off x="304920" y="-96840"/>
            <a:ext cx="6626160" cy="149220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2"/>
          <p:cNvSpPr/>
          <p:nvPr/>
        </p:nvSpPr>
        <p:spPr>
          <a:xfrm>
            <a:off x="0" y="5786280"/>
            <a:ext cx="90010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Calibri"/>
              </a:rPr>
              <a:t>…  </a:t>
            </a: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Calibri"/>
              </a:rPr>
              <a:t>uma grande elevação  do  terreno com  o  cume (cimo)  aguçado e  grande  inclinação 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1" name="Picture 7" descr=""/>
          <p:cNvPicPr/>
          <p:nvPr/>
        </p:nvPicPr>
        <p:blipFill>
          <a:blip r:embed="rId2"/>
          <a:stretch/>
        </p:blipFill>
        <p:spPr>
          <a:xfrm>
            <a:off x="1600200" y="1170000"/>
            <a:ext cx="5638680" cy="422748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5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5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5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22400" y="5742000"/>
            <a:ext cx="8808840" cy="1378080"/>
          </a:xfrm>
          <a:prstGeom prst="rect">
            <a:avLst/>
          </a:prstGeom>
          <a:ln w="0">
            <a:noFill/>
          </a:ln>
        </p:spPr>
      </p:pic>
      <p:sp>
        <p:nvSpPr>
          <p:cNvPr id="413" name="Rectangle 2"/>
          <p:cNvSpPr/>
          <p:nvPr/>
        </p:nvSpPr>
        <p:spPr>
          <a:xfrm>
            <a:off x="357120" y="714240"/>
            <a:ext cx="6643800" cy="10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ângulo 6"/>
          <p:cNvSpPr/>
          <p:nvPr/>
        </p:nvSpPr>
        <p:spPr>
          <a:xfrm>
            <a:off x="785880" y="0"/>
            <a:ext cx="551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5400" spc="-1" strike="noStrike">
                <a:solidFill>
                  <a:srgbClr val="624139"/>
                </a:solidFill>
                <a:latin typeface="Arial"/>
                <a:ea typeface="Calibri"/>
              </a:rPr>
              <a:t>A  serra  é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Imagem 1" descr=""/>
          <p:cNvPicPr/>
          <p:nvPr/>
        </p:nvPicPr>
        <p:blipFill>
          <a:blip r:embed="rId2"/>
          <a:stretch/>
        </p:blipFill>
        <p:spPr>
          <a:xfrm>
            <a:off x="1357200" y="1214280"/>
            <a:ext cx="6429600" cy="473076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5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5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5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Rectangle 2" descr=""/>
          <p:cNvPicPr/>
          <p:nvPr/>
        </p:nvPicPr>
        <p:blipFill>
          <a:blip r:embed="rId1"/>
          <a:stretch/>
        </p:blipFill>
        <p:spPr>
          <a:xfrm>
            <a:off x="-158760" y="5462640"/>
            <a:ext cx="9309240" cy="1359000"/>
          </a:xfrm>
          <a:prstGeom prst="rect">
            <a:avLst/>
          </a:prstGeom>
          <a:ln w="0">
            <a:noFill/>
          </a:ln>
        </p:spPr>
      </p:pic>
      <p:pic>
        <p:nvPicPr>
          <p:cNvPr id="417" name="Imagem 7" descr=""/>
          <p:cNvPicPr/>
          <p:nvPr/>
        </p:nvPicPr>
        <p:blipFill>
          <a:blip r:embed="rId2"/>
          <a:stretch/>
        </p:blipFill>
        <p:spPr>
          <a:xfrm>
            <a:off x="1928880" y="1143000"/>
            <a:ext cx="4917960" cy="450072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5"/>
          <p:cNvSpPr/>
          <p:nvPr/>
        </p:nvSpPr>
        <p:spPr>
          <a:xfrm>
            <a:off x="357120" y="214200"/>
            <a:ext cx="55008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5400" spc="-1" strike="noStrike">
                <a:solidFill>
                  <a:srgbClr val="624139"/>
                </a:solidFill>
                <a:latin typeface="Arial"/>
                <a:ea typeface="Calibri"/>
              </a:rPr>
              <a:t>A colina é ..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1311120" y="-19080"/>
            <a:ext cx="5046840" cy="1487520"/>
          </a:xfrm>
          <a:prstGeom prst="rect">
            <a:avLst/>
          </a:prstGeom>
          <a:ln w="0">
            <a:noFill/>
          </a:ln>
        </p:spPr>
      </p:pic>
      <p:pic>
        <p:nvPicPr>
          <p:cNvPr id="420" name="Imagem 1" descr=""/>
          <p:cNvPicPr/>
          <p:nvPr/>
        </p:nvPicPr>
        <p:blipFill>
          <a:blip r:embed="rId2"/>
          <a:stretch/>
        </p:blipFill>
        <p:spPr>
          <a:xfrm>
            <a:off x="1143000" y="1143000"/>
            <a:ext cx="6851520" cy="4643280"/>
          </a:xfrm>
          <a:prstGeom prst="rect">
            <a:avLst/>
          </a:prstGeom>
          <a:ln w="0">
            <a:noFill/>
          </a:ln>
        </p:spPr>
      </p:pic>
      <p:sp>
        <p:nvSpPr>
          <p:cNvPr id="421" name="Text Box 6"/>
          <p:cNvSpPr/>
          <p:nvPr/>
        </p:nvSpPr>
        <p:spPr>
          <a:xfrm>
            <a:off x="0" y="5929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um terreno baixo, situado entre montanh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Imagem 1" descr=""/>
          <p:cNvPicPr/>
          <p:nvPr/>
        </p:nvPicPr>
        <p:blipFill>
          <a:blip r:embed="rId3"/>
          <a:stretch/>
        </p:blipFill>
        <p:spPr>
          <a:xfrm>
            <a:off x="1146240" y="1125360"/>
            <a:ext cx="6851520" cy="464364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50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50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50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Rectangle 2" descr=""/>
          <p:cNvPicPr/>
          <p:nvPr/>
        </p:nvPicPr>
        <p:blipFill>
          <a:blip r:embed="rId1"/>
          <a:stretch/>
        </p:blipFill>
        <p:spPr>
          <a:xfrm>
            <a:off x="378000" y="-109440"/>
            <a:ext cx="6724440" cy="149364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7" descr=""/>
          <p:cNvPicPr/>
          <p:nvPr/>
        </p:nvPicPr>
        <p:blipFill>
          <a:blip r:embed="rId2"/>
          <a:stretch/>
        </p:blipFill>
        <p:spPr>
          <a:xfrm>
            <a:off x="928800" y="1143000"/>
            <a:ext cx="6966000" cy="463860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6"/>
          <p:cNvSpPr/>
          <p:nvPr/>
        </p:nvSpPr>
        <p:spPr>
          <a:xfrm>
            <a:off x="0" y="5929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...um terreno plano situado a grande altitu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50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50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50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Rectangle 2" descr=""/>
          <p:cNvPicPr/>
          <p:nvPr/>
        </p:nvPicPr>
        <p:blipFill>
          <a:blip r:embed="rId1"/>
          <a:stretch/>
        </p:blipFill>
        <p:spPr>
          <a:xfrm>
            <a:off x="590400" y="-208080"/>
            <a:ext cx="6553440" cy="1487520"/>
          </a:xfrm>
          <a:prstGeom prst="rect">
            <a:avLst/>
          </a:prstGeom>
          <a:ln w="0">
            <a:noFill/>
          </a:ln>
        </p:spPr>
      </p:pic>
      <p:pic>
        <p:nvPicPr>
          <p:cNvPr id="427" name="Imagem 7" descr=""/>
          <p:cNvPicPr/>
          <p:nvPr/>
        </p:nvPicPr>
        <p:blipFill>
          <a:blip r:embed="rId2"/>
          <a:stretch/>
        </p:blipFill>
        <p:spPr>
          <a:xfrm>
            <a:off x="1128600" y="1157400"/>
            <a:ext cx="6593040" cy="4736880"/>
          </a:xfrm>
          <a:prstGeom prst="rect">
            <a:avLst/>
          </a:prstGeom>
          <a:ln w="0">
            <a:noFill/>
          </a:ln>
        </p:spPr>
      </p:pic>
      <p:sp>
        <p:nvSpPr>
          <p:cNvPr id="428" name="Text Box 5"/>
          <p:cNvSpPr/>
          <p:nvPr/>
        </p:nvSpPr>
        <p:spPr>
          <a:xfrm>
            <a:off x="285840" y="5780160"/>
            <a:ext cx="8858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...uma grande extensão de terreno plano situado a baixa altitu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50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50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50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50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50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50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17:30:48Z</dcterms:created>
  <dc:creator>EB1 da Boavista</dc:creator>
  <dc:description/>
  <dc:language>en-US</dc:language>
  <cp:lastModifiedBy>Utilizador</cp:lastModifiedBy>
  <dcterms:modified xsi:type="dcterms:W3CDTF">2012-06-29T16:13:06Z</dcterms:modified>
  <cp:revision>58</cp:revision>
  <dc:subject/>
  <dc:title>Apresentação do PowerPoint</dc:title>
</cp:coreProperties>
</file>